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0490-7BF0-4B42-9666-415D66CA3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4B7-24BC-4CB5-B649-6C73A9FE0C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40A-FAE8-4ABD-BA37-5695246F8B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140-BAEF-42F1-BAD5-071B237DE6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1F42-0D46-48A8-A5EB-00B6DB9723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A52-B82B-4C89-B8A7-F7856E606A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018-CBBF-4E0E-99DF-0C465DD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71A-9C78-4084-94ED-1D198580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CEA-F011-4C74-B5F2-2E6E492C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068-93FF-4248-B3B7-601154C3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9B43-900E-4D65-A10C-EACD3CF3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D123-7473-4A42-911E-376E918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9F9-5484-4426-B296-5B54EA2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B707-EE05-4C60-B086-5033E9E0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17E6-D5C8-4925-AF72-3C53D286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C8DF-CEBB-4136-96EF-F8F0DF7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43F-DC97-421C-B0ED-2230D9B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520-5EBB-4DDE-993E-E7B4AC5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10F-8041-4F59-AE7E-E9C8E88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C83-47CC-4CD5-969F-7E53C5B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6D5-AE4A-4CF8-B549-F88CE1B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85C3-86F9-4F16-8E24-B1BD6715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9D37-A59A-400F-8665-B3FFC47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305-8D0A-4711-97C9-6CCE425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A87-DA2D-45D9-A3C6-4D0A85FD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C03-C8C5-445F-BE6B-71F0AC22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73A-4B7A-4CB3-BFB0-121F9D1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2E0-5237-4CA8-BEDF-3B174E6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A54-8458-46C5-B3EC-C597FB0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B3F-83F2-4EF8-9E95-45CE803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C8A3-1EFA-4B97-B6C0-AC88AE7304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0EB-F1A7-400B-9427-282E2FD000C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3c2"/>
            </a:gs>
            <a:gs pos="100000">
              <a:srgbClr val="f0e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255600"/>
            <a:ext cx="12301560" cy="626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4797000"/>
            <a:ext cx="6400800" cy="2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3c2"/>
            </a:gs>
            <a:gs pos="100000">
              <a:srgbClr val="f0e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991720" cy="854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33320" y="4898880"/>
            <a:ext cx="80647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TextBox 3"/>
          <p:cNvGrpSpPr/>
          <p:nvPr/>
        </p:nvGrpSpPr>
        <p:grpSpPr>
          <a:xfrm>
            <a:off x="378000" y="3913200"/>
            <a:ext cx="8418240" cy="1981080"/>
            <a:chOff x="378000" y="3913200"/>
            <a:chExt cx="8418240" cy="1981080"/>
          </a:xfrm>
        </p:grpSpPr>
        <p:pic>
          <p:nvPicPr>
            <p:cNvPr id="94" name="TextBox 3" descr=""/>
            <p:cNvPicPr/>
            <p:nvPr/>
          </p:nvPicPr>
          <p:blipFill>
            <a:blip r:embed="rId2"/>
            <a:stretch/>
          </p:blipFill>
          <p:spPr>
            <a:xfrm>
              <a:off x="378000" y="3913200"/>
              <a:ext cx="84182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95280" y="3933720"/>
              <a:ext cx="8373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Планирование доходных источник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на основании методик, утвержденных главными администраторами доходов в соответствии с Постановлением Правительства РФ от 23.06.2016 № 57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TextBox 12"/>
          <p:cNvGrpSpPr/>
          <p:nvPr/>
        </p:nvGrpSpPr>
        <p:grpSpPr>
          <a:xfrm>
            <a:off x="414360" y="957240"/>
            <a:ext cx="8405640" cy="1243080"/>
            <a:chOff x="414360" y="957240"/>
            <a:chExt cx="8405640" cy="1243080"/>
          </a:xfrm>
        </p:grpSpPr>
        <p:pic>
          <p:nvPicPr>
            <p:cNvPr id="97" name="TextBox 12" descr=""/>
            <p:cNvPicPr/>
            <p:nvPr/>
          </p:nvPicPr>
          <p:blipFill>
            <a:blip r:embed="rId3"/>
            <a:stretch/>
          </p:blipFill>
          <p:spPr>
            <a:xfrm>
              <a:off x="414360" y="957240"/>
              <a:ext cx="84056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31640" y="976320"/>
              <a:ext cx="836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Прогнозный темп инфляции: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на 2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1 год – 104,0%,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на 2022 год – 1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%, на 2023 год – 104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,0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TextBox 20"/>
          <p:cNvGrpSpPr/>
          <p:nvPr/>
        </p:nvGrpSpPr>
        <p:grpSpPr>
          <a:xfrm>
            <a:off x="378000" y="5919840"/>
            <a:ext cx="8405640" cy="871560"/>
            <a:chOff x="378000" y="5919840"/>
            <a:chExt cx="8405640" cy="871560"/>
          </a:xfrm>
        </p:grpSpPr>
        <p:pic>
          <p:nvPicPr>
            <p:cNvPr id="100" name="TextBox 20" descr=""/>
            <p:cNvPicPr/>
            <p:nvPr/>
          </p:nvPicPr>
          <p:blipFill>
            <a:blip r:embed="rId4"/>
            <a:stretch/>
          </p:blipFill>
          <p:spPr>
            <a:xfrm>
              <a:off x="378000" y="5919840"/>
              <a:ext cx="8405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95280" y="5938920"/>
              <a:ext cx="836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База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– оценка поступлений в текущем год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Номер слайда 4"/>
          <p:cNvSpPr/>
          <p:nvPr/>
        </p:nvSpPr>
        <p:spPr>
          <a:xfrm>
            <a:off x="8244000" y="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TextBox 8"/>
          <p:cNvGrpSpPr/>
          <p:nvPr/>
        </p:nvGrpSpPr>
        <p:grpSpPr>
          <a:xfrm>
            <a:off x="378000" y="2255760"/>
            <a:ext cx="8405640" cy="1614600"/>
            <a:chOff x="378000" y="2255760"/>
            <a:chExt cx="8405640" cy="1614600"/>
          </a:xfrm>
        </p:grpSpPr>
        <p:pic>
          <p:nvPicPr>
            <p:cNvPr id="104" name="TextBox 8" descr=""/>
            <p:cNvPicPr/>
            <p:nvPr/>
          </p:nvPicPr>
          <p:blipFill>
            <a:blip r:embed="rId5"/>
            <a:stretch/>
          </p:blipFill>
          <p:spPr>
            <a:xfrm>
              <a:off x="378000" y="2255760"/>
              <a:ext cx="84056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95280" y="2276640"/>
              <a:ext cx="8366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Темп роста фонда оплаты труда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на территории Старооскольского городского окру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в 2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1 году – 106,1%, в 2022 году – 106,7%,                   в 2023 году – 107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5 %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5" descr="3ндфл.jpg"/>
          <p:cNvPicPr/>
          <p:nvPr/>
        </p:nvPicPr>
        <p:blipFill>
          <a:blip r:embed="rId2"/>
          <a:stretch/>
        </p:blipFill>
        <p:spPr>
          <a:xfrm>
            <a:off x="-378000" y="2614680"/>
            <a:ext cx="9607680" cy="39513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3"/>
          <a:stretch/>
        </p:blipFill>
        <p:spPr>
          <a:xfrm>
            <a:off x="-6480" y="49320"/>
            <a:ext cx="9010800" cy="1150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468360" y="981000"/>
            <a:ext cx="8136000" cy="1998360"/>
          </a:xfrm>
          <a:prstGeom prst="rect">
            <a:avLst/>
          </a:prstGeom>
          <a:gradFill rotWithShape="0">
            <a:gsLst>
              <a:gs pos="0">
                <a:srgbClr val="9a7652"/>
              </a:gs>
              <a:gs pos="100000">
                <a:srgbClr val="ffcc91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  <a:ea typeface="Tahoma"/>
              </a:rPr>
              <a:t>По налогу на доходы физических лиц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  <a:ea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  <a:ea typeface="Tahom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  <a:ea typeface="Tahoma"/>
              </a:rPr>
              <a:t>с 1 января 2021 года планируется введение повышенного налога (15%) для плательщиков, чей доход превысит 5 миллионов рубле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317080" y="0"/>
            <a:ext cx="82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TextBox 27"/>
          <p:cNvGrpSpPr/>
          <p:nvPr/>
        </p:nvGrpSpPr>
        <p:grpSpPr>
          <a:xfrm>
            <a:off x="523800" y="5005440"/>
            <a:ext cx="8102520" cy="1608120"/>
            <a:chOff x="523800" y="5005440"/>
            <a:chExt cx="8102520" cy="1608120"/>
          </a:xfrm>
        </p:grpSpPr>
        <p:pic>
          <p:nvPicPr>
            <p:cNvPr id="111" name="TextBox 27" descr=""/>
            <p:cNvPicPr/>
            <p:nvPr/>
          </p:nvPicPr>
          <p:blipFill>
            <a:blip r:embed="rId4"/>
            <a:stretch/>
          </p:blipFill>
          <p:spPr>
            <a:xfrm>
              <a:off x="523800" y="5005440"/>
              <a:ext cx="81025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9640" y="5019840"/>
              <a:ext cx="8064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Tahoma"/>
                </a:rPr>
                <a:t>С 01.01.2021 подлежат налогообложению доходы с процентов по вкладам в банках.      По ставке 13% будет облагаться размер годового дохода, превышающий 60 тыс. руб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317520" y="-49320"/>
            <a:ext cx="8454960" cy="824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95280" y="836640"/>
            <a:ext cx="8373960" cy="1618560"/>
          </a:xfrm>
          <a:prstGeom prst="rect">
            <a:avLst/>
          </a:prstGeom>
          <a:gradFill rotWithShape="0">
            <a:gsLst>
              <a:gs pos="0">
                <a:srgbClr val="9a7652"/>
              </a:gs>
              <a:gs pos="100000">
                <a:srgbClr val="ffcc91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ная система налогооб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 года – при превышении критериев по объему доходов более чем на 50 млн.руб. и (или)  по средней численности на 30 человек хозяйствующие субъекты будут применять ставки                               8 и 20 процентов вместо установленных 6 и 15 процен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 flipV="1" rot="10800000">
            <a:off x="395280" y="4005360"/>
            <a:ext cx="8424720" cy="1008720"/>
          </a:xfrm>
          <a:prstGeom prst="rect">
            <a:avLst/>
          </a:prstGeom>
          <a:gradFill rotWithShape="0">
            <a:gsLst>
              <a:gs pos="0">
                <a:srgbClr val="9a7652"/>
              </a:gs>
              <a:gs pos="100000">
                <a:srgbClr val="ffcc9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 го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я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оговый режим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налог на вмененный доход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 переходят на иные системы налогообло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 flipV="1" rot="10800000">
            <a:off x="395280" y="5156640"/>
            <a:ext cx="8424720" cy="703800"/>
          </a:xfrm>
          <a:prstGeom prst="rect">
            <a:avLst/>
          </a:prstGeom>
          <a:gradFill rotWithShape="0">
            <a:gsLst>
              <a:gs pos="0">
                <a:srgbClr val="ece4cd"/>
              </a:gs>
              <a:gs pos="100000">
                <a:srgbClr val="d4c281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21 года отменя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ения налоговых деклараций по земельному и транспортному налогам для организ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TextBox 27"/>
          <p:cNvGrpSpPr/>
          <p:nvPr/>
        </p:nvGrpSpPr>
        <p:grpSpPr>
          <a:xfrm>
            <a:off x="378000" y="2548080"/>
            <a:ext cx="8405640" cy="1365120"/>
            <a:chOff x="378000" y="2548080"/>
            <a:chExt cx="8405640" cy="1365120"/>
          </a:xfrm>
        </p:grpSpPr>
        <p:pic>
          <p:nvPicPr>
            <p:cNvPr id="118" name="TextBox 27" descr=""/>
            <p:cNvPicPr/>
            <p:nvPr/>
          </p:nvPicPr>
          <p:blipFill>
            <a:blip r:embed="rId3"/>
            <a:stretch/>
          </p:blipFill>
          <p:spPr>
            <a:xfrm>
              <a:off x="378000" y="2548080"/>
              <a:ext cx="84056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2565360"/>
              <a:ext cx="8366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1 июля текущего года на территории Белгородской области введен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 на профессиональный доход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тавка 4% и 6%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норматив распределения: 63% - в областной бюджет, 37% - в ФОМ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Box 28"/>
          <p:cNvSpPr/>
          <p:nvPr/>
        </p:nvSpPr>
        <p:spPr>
          <a:xfrm flipV="1" rot="10800000">
            <a:off x="395280" y="6020280"/>
            <a:ext cx="8461440" cy="703800"/>
          </a:xfrm>
          <a:prstGeom prst="rect">
            <a:avLst/>
          </a:prstGeom>
          <a:gradFill rotWithShape="0">
            <a:gsLst>
              <a:gs pos="0">
                <a:srgbClr val="9a7652"/>
              </a:gs>
              <a:gs pos="100000">
                <a:srgbClr val="ffcc9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будет произведе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ценка кадастровой стоим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 населенных пун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8172360" y="115920"/>
            <a:ext cx="827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317520" y="-49320"/>
            <a:ext cx="8454960" cy="82404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4"/>
          <p:cNvSpPr/>
          <p:nvPr/>
        </p:nvSpPr>
        <p:spPr>
          <a:xfrm>
            <a:off x="8172360" y="115920"/>
            <a:ext cx="827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Диаграмма 4" descr=""/>
          <p:cNvPicPr/>
          <p:nvPr/>
        </p:nvPicPr>
        <p:blipFill>
          <a:blip r:embed="rId3"/>
          <a:stretch/>
        </p:blipFill>
        <p:spPr>
          <a:xfrm>
            <a:off x="-50760" y="930240"/>
            <a:ext cx="89946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13:19:29Z</dcterms:created>
  <dc:creator>Скрыпова Ирина</dc:creator>
  <dc:description/>
  <dc:language>en-US</dc:language>
  <cp:lastModifiedBy>kozlovskaya</cp:lastModifiedBy>
  <cp:lastPrinted>2019-08-28T06:14:20Z</cp:lastPrinted>
  <dcterms:modified xsi:type="dcterms:W3CDTF">2020-08-27T06:50:11Z</dcterms:modified>
  <cp:revision>131</cp:revision>
  <dc:subject/>
  <dc:title>Слайд 1</dc:title>
</cp:coreProperties>
</file>